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FF3-F23E-4C4D-8249-4F433DC3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539-7F89-47E8-BCE0-D8864109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05C-6301-4305-B966-6FF4C72C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289-BA56-4D87-A583-A1B15119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0A78-DDF3-47E8-BF04-A7EA6546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10CA-40FA-4581-B218-638F29F6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4687-A0C3-40C3-A12D-976DD649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0767-02DE-4DC0-B263-D592BB55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524B-F4B0-4A03-85B7-63C591EC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341E-9B9D-4290-82CB-136383D9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21B8-3A98-4874-B4EA-A5F8849C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68B-EC47-47C2-9909-B09D7066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6089-39B2-4FC8-82B9-6740E441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63CB-A656-4C39-8769-4593570C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6680-6D10-4184-A06D-3C249ACF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F2FC-B500-4FFE-A30F-40FDC469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5211-6EF7-42EE-8E26-A4593B92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C7C1-FB9F-4DD7-A1C1-54DADF39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0BAA-026B-4085-8AAB-49D23E85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6B2E-288B-4816-9B09-E8D34CFB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5E5B-1AAC-421B-BA2D-D4576130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6A2DB-D7D1-4F78-8740-F34218AC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772-DD51-4C97-BF0B-752327A1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846D5-A63D-43DC-B86D-870287A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172B-F072-4109-9765-644F4101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91116-EF81-44B6-B61C-8F362643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C50C-D933-45B1-A4DB-E22B5E7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5668-F712-4DC1-B759-9F2F2EAB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1796-38A3-4976-8973-C6E2CC7A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1554-666D-4BE0-B6B5-AC3627AF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656C-EE0B-4A70-A333-A8F71312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8774-E50C-4EC6-B11C-3F3ED418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04492-ED12-4343-8DDB-4E09D792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FD1-07BB-4E47-B283-9774DF9B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E1C00-14CA-4244-8FC2-FA8A0D03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10D9-ADE2-431E-8947-C10D9C4E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BADA-372E-41EA-90C0-589DF485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B922A-C6D1-4906-9917-57D15087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761A-C0FF-4FD3-9A09-28D6AE4B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BC14-1FF5-4B9A-835B-6C23F381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B285-D8A8-4CE6-90BA-A0B20CB1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C7484-FD89-4966-995E-7B066BE3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EE8D-3E9A-4B0F-97F3-FAAF9359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90F28-83A2-4354-9BA1-73141412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D36-310D-4EAA-BF89-C926E583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3E947-D962-45C9-B690-C09DAF34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99831-AA54-4700-AD71-8EEB1123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4064-2553-4727-A4FA-F3C84610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9272D-6DD7-4D2B-BC3E-3061E31C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2BEA6-236E-4B91-97D2-D38E1D91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CB866-8BC1-4A39-B8B3-FBE77CD4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0F5C7-8439-4D37-BEC5-DC4AE4AE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D7617-4A9F-444A-BAA6-9640978A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A97E2-08C0-4BA1-9F34-9E827314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94196-B0E5-436F-B100-64FF3F25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334-049E-4BEF-B5BC-14B53257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75057-803C-4B17-8FC9-682CA37C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DDBA-C90E-44D0-BE84-ECB7170F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7C97-D68D-4BAC-AA3F-DED1479F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2E62F-CAE1-40AC-AC68-94A3B032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57ED-42A6-4A50-AD84-DBE49414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71B0D-6D66-410C-B3A6-869E54E8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8FC5B-6A52-4F7C-9AAF-230121E3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595F-2468-4AEC-A9EC-B01C69B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0C19D-DABE-44E8-9164-91C8DC8A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30CE-C46A-4C4B-B47E-BC8C02A4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FCF-D5A3-41E1-8C63-E7F9C461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E8FEC-BA46-4563-8199-5381A9C1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FC027-6205-4619-A045-852EB16F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42B88-66CF-41A8-8970-7668E201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B9549-2077-4FF1-BD2B-4FD99456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B89D2-0639-47D5-A946-713BC59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68194-17D5-4D0D-A7CD-1D55D605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FD0E9-8405-4840-89D8-8DAAE1E3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00239-A2CB-48EE-B1B5-698D712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2DB15-BE41-4554-A308-94125710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0C7EF-186D-422D-A9A6-689C1028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2F7-36FE-4B20-9C70-214D0FD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4E3AB-1265-44CE-A441-C78D8249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BE2BA-C49B-4242-8B85-5AC152E4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76EBB-25C4-446A-B108-0BD4DC69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56D09-67B5-4E0D-B919-733419DB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72B60-D65E-489C-B665-5D420038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D13-0AFD-4150-B944-9ED1A818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9F4F-38C2-4FCE-AE18-8362D8BF1940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E49D-A95F-46DC-BAE2-EED4641923EF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7598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7598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626d8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626d8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26d8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9ED1-7B34-4AA1-9C6F-2045073BAE36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4201-747B-4EA1-8222-16CE3E0C5E6A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626d8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9D20-64AE-4A08-842B-E23862CC058A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A201-67E0-4A4A-8D31-770558E0AC10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8A07-42CE-40EF-B24F-653898754482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etcode.com/wxpython/introduc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s.berkeley.edu/~flab/languages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ython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1517760"/>
            <a:ext cx="7785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nam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2f2f2"/>
                </a:solidFill>
                <a:latin typeface="Corbel"/>
              </a:rPr>
              <a:t>Examples of incorrect variable names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76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trombones = "big parade“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starts with a number 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more</a:t>
            </a: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$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= 1000000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has the dollar sign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class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= "Computer Science 203“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used ‘class’ is a reserved word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Data Typ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umber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tegers (0, 12, 17, -20,…),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loats (0.0, 3.14, 6.02e23,…..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perator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+  -  *  /  %  (modulus or remainder)  ** (exponentiation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tring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ything in double quotes”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Data Typ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ype(“Hello World”) : &lt;type ’str’&gt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ype(10) : &lt;type ’int’&gt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ssu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 1,000,000  :  1 0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nam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609480" y="152388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d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and  - assert - break - class - continue - d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del  - elif  - else - except - exec - fin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for - from - global - if - import -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is - lambda - not - or - pass - p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raise – return – try - while  -y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Some practic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e  a variable call it var1 and store the number 9 in i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e  a second variable call it var2 and store the number 1 in i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t the sum of var1 and var2 and store the result in var3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witch the values of var1 and var2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ery Importa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ython is case sensitiv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le nam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 (X is different from 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lename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variableN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unction nam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f stateme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{conditions to be met}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do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and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and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but this happens regardles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because it isn't indented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y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y == 1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“y still equals 1, I was just checking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omparison operato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=   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=    grater than or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=    less than or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       less th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      grater th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!=      differ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f stateme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a = 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f a &gt; 5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This shouldn’t happen.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else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‘This should happen.’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3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z = 4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f z &gt; 70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Something is very wrong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elif z &lt; 7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This is normal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– for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for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item </a:t>
            </a: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in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container</a:t>
            </a: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: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# action to repeat for each item in the container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else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action to take once we have finished the loop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sum = 0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for x in [1, 2, 3, 4]: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execfile(“forexample01”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70" name="Picture 4" descr="African-Rock-Python-0004"/>
          <p:cNvPicPr/>
          <p:nvPr/>
        </p:nvPicPr>
        <p:blipFill>
          <a:blip r:embed="rId1"/>
          <a:stretch/>
        </p:blipFill>
        <p:spPr>
          <a:xfrm>
            <a:off x="1600200" y="152280"/>
            <a:ext cx="57150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– for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wList = [45, 'eat me', 90210, ‘The day has come’, -67]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r value in newList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nt valu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execfile(“forexample02”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- while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while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{condition that the loop continues}</a:t>
            </a: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{what to do in the loop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{have it indented, usually four spaces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{the code here is not looped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{because it isn't indented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x = 10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while x != 0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print x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x = x - 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wow, we have counted x down, and now it equals”, x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"And now the loop has ended."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- while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“We will show the even numbers up to 20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ile n &lt;= 20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n % 2 == 0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 = n +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"there, done.“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execfile(“whileexample02”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mportant not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09120" y="1784520"/>
            <a:ext cx="8077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 condition in an if statement or a while loop can be a simple one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expression 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comparison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expression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age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&gt;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100):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 if ( x%2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==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0):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while( (i + j)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&lt;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(k * l - m)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Or  a mix of several simple conditions: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…….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…………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..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operator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age&gt;100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AND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salary&gt;100000):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(color == “red”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OR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color==“pink”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goodstanding = true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NOT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goodstanding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o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040" y="1294920"/>
            <a:ext cx="38862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mparison Operato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!=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4876920" y="1295280"/>
            <a:ext cx="36576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gical Op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c"/>
                </a:solidFill>
                <a:latin typeface="Consolas"/>
              </a:rPr>
              <a:t>The difference between </a:t>
            </a:r>
            <a:br>
              <a:rPr sz="3600"/>
            </a:br>
            <a:r>
              <a:rPr b="0" lang="en-US" sz="3600" spc="-1" strike="noStrike">
                <a:solidFill>
                  <a:srgbClr val="ffff6c"/>
                </a:solidFill>
                <a:latin typeface="Consolas"/>
              </a:rPr>
              <a:t>for &amp; while</a:t>
            </a:r>
            <a:endParaRPr b="0" lang="en-US" sz="36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7845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while x &lt;= 4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x = x +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print su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0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r x in [1, 2, 3, 4]: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print su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784520"/>
            <a:ext cx="7772400" cy="24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Built-in functions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“something”, somethingelse , …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nipulating pictures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et a picture from the internet  - Google : </a:t>
            </a:r>
            <a:r>
              <a:rPr b="0" lang="en-US" sz="2000" spc="-1" strike="noStrike">
                <a:solidFill>
                  <a:srgbClr val="0070c0"/>
                </a:solidFill>
                <a:latin typeface="Corbel"/>
              </a:rPr>
              <a:t>free pictures rock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makePicture, show, getColor, SetColor,…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762120" y="4572000"/>
            <a:ext cx="8229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cture = </a:t>
            </a:r>
            <a:r>
              <a:rPr b="0" lang="en-US" sz="1600" spc="-1" strike="noStrike">
                <a:solidFill>
                  <a:srgbClr val="ffe636"/>
                </a:solidFill>
                <a:latin typeface="Arial"/>
              </a:rPr>
              <a:t>makePic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“C:\\Documents and Settings\\aguerbas\\Desktop\\python.jpg"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636"/>
                </a:solidFill>
                <a:latin typeface="Arial"/>
              </a:rPr>
              <a:t>sh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picture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er Defined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29492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# function with no parameters and no returned value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hello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():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print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"Hello World!"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hen you call this function using the interactive console like this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hello()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It will print Helllo World!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# Simple Argument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withParameters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txt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):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print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txt+txt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    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hen you call this function using the interactive console like this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ithParameters(”Hello”)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This function will print the Hello 2 times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er Defined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function with parameters and with returned value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 product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umber1,number2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sult = number1 * number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                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return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resul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value returned by a function can be stored in a variable like this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ariableName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product(2,3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variableNam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previous instructions can be in the same file where the function product is defined or can be typed in the interactive (black) conso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ing Built-in function</a:t>
            </a:r>
            <a:br>
              <a:rPr sz="4000"/>
            </a:b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math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9810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 using built-in math fun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mport  ma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Logarithm(x)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f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&lt;= 0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"Positive numbers only, please.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sult = math.log(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"The log of x is", resul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Python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is the name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of a programming language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as well</a:t>
            </a:r>
            <a:endParaRPr b="0" lang="en-US" sz="5400" spc="-1" strike="noStrike">
              <a:solidFill>
                <a:srgbClr val="ffff6c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ing Built-in function</a:t>
            </a:r>
            <a:br>
              <a:rPr sz="4000"/>
            </a:b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math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 using built-in math fun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ing the return keywor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mport ma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Logarithm(x)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x &lt;= 0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"Positive numbers only, please.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math.log(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String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message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“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Good Morning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”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The variable message has type String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following operations are illegal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message 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 1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message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“Hello”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so the following operations are illegal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Hello”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123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15”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String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following operations are legal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Fruit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“banana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bakedGood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“nut bread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fruit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bakedGoo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peti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print  “fun”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3     </a:t>
            </a:r>
            <a:r>
              <a:rPr b="0" lang="en-US" sz="2400" spc="-1" strike="noStrike">
                <a:solidFill>
                  <a:srgbClr val="f2f2f2"/>
                </a:solidFill>
                <a:latin typeface="Corbel"/>
              </a:rPr>
              <a:t>it  gives you:  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“funfunfun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numbe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    is   3   and  not 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    is   3    and  not 27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-1        is   5    and not 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/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          is   -1   and not  1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integer division: use decimals to get real numbers 2.0/3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orbel"/>
              </a:rPr>
              <a:t>To avoid ambiguity (confusion) use parenthesis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)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2f2f2"/>
                </a:solidFill>
                <a:latin typeface="Corbel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)-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Things to remember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ython is case sensiti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dentation is very important in J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Steps to run a Jython (JES)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rite your code (instruction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ad the code (you will be asked to save i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un the code either by using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execfile(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cation &amp; name of the file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”)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comman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r by calling directly a function if you have on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structions are executed sequentiall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iece of code that gives you the number of days you have li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clude your name and a description of what the code does at the beginning of your python progra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rogram that converts temperature in Celsius to Fahrenheit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)Take the temperature in Celsius and multiply 1.8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)Add 32 degrees. The result is degrees Fahrenhei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rogram that takes four different grades as input and gives you a letter grad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1: 90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2: 95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3 : 93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4: 91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output should be: 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c"/>
                </a:solidFill>
                <a:latin typeface="Consolas"/>
              </a:rPr>
              <a:t>Programming Languages Usage</a:t>
            </a:r>
            <a:endParaRPr b="0" lang="en-US" sz="28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1223640" y="5562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numbers are from May 200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219320" y="1143000"/>
          <a:ext cx="6476760" cy="4159080"/>
        </p:xfrm>
        <a:graphic>
          <a:graphicData uri="http://schemas.openxmlformats.org/drawingml/2006/table">
            <a:tbl>
              <a:tblPr/>
              <a:tblGrid>
                <a:gridCol w="2158920"/>
                <a:gridCol w="2158920"/>
                <a:gridCol w="215892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a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5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0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isual Ba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r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yth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#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vaScrip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u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.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Text Box 79"/>
          <p:cNvSpPr/>
          <p:nvPr/>
        </p:nvSpPr>
        <p:spPr>
          <a:xfrm>
            <a:off x="5080320" y="6019920"/>
            <a:ext cx="29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zetcode.com/wxpython/int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c"/>
                </a:solidFill>
                <a:latin typeface="Consolas"/>
              </a:rPr>
              <a:t>Programming Languages Usage</a:t>
            </a:r>
            <a:endParaRPr b="0" lang="en-US" sz="28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77" name="Picture 4" descr="languages"/>
          <p:cNvPicPr/>
          <p:nvPr/>
        </p:nvPicPr>
        <p:blipFill>
          <a:blip r:embed="rId1"/>
          <a:stretch/>
        </p:blipFill>
        <p:spPr>
          <a:xfrm>
            <a:off x="1173240" y="1784520"/>
            <a:ext cx="7254720" cy="4572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4724280" y="632448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http://www.cs.berkeley.edu/~flab/languag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Python</a:t>
            </a:r>
            <a:endParaRPr b="0" lang="en-US" sz="54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6765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pen Source (Fre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rt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mple Synta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ll Document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2611c"/>
                </a:solidFill>
                <a:uFillTx/>
                <a:latin typeface="Corbel"/>
                <a:hlinkClick r:id="rId1"/>
              </a:rPr>
              <a:t>www.python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Programming with Python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at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Constants and Variab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structions (Cod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Assignment (=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If .. Then state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Loo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…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J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84" name="Picture 5" descr="Jes"/>
          <p:cNvPicPr/>
          <p:nvPr/>
        </p:nvPicPr>
        <p:blipFill>
          <a:blip r:embed="rId1"/>
          <a:stretch/>
        </p:blipFill>
        <p:spPr>
          <a:xfrm>
            <a:off x="1600200" y="990720"/>
            <a:ext cx="60580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Variables are names for data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Examples of good variable names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age = 99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vince = “Alberta”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x = 15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y = 32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gasprice = 0.95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i = 3.14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28:39Z</dcterms:created>
  <dc:creator>Information Technologies</dc:creator>
  <dc:description/>
  <dc:language>en-US</dc:language>
  <cp:lastModifiedBy>aguerbas</cp:lastModifiedBy>
  <dcterms:modified xsi:type="dcterms:W3CDTF">2009-03-20T01:33:42Z</dcterms:modified>
  <cp:revision>108</cp:revision>
  <dc:subject/>
  <dc:title>Slide 1</dc:title>
</cp:coreProperties>
</file>